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C2F9-50E1-4C3A-B0EF-72D162F2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EE95-318A-43E4-B08E-9A13AEE6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A8F3-8860-4E5F-84C9-33261B32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AA85-A656-4906-B36F-5C3EE8A4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A0C4-648B-4127-B8B1-434E371F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6AB4-431B-4C0D-8DA0-973A887E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72F0-9AA4-4D8A-90C9-129CF8D1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5F54-0FD5-46C6-9AB8-378B469F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F9C1-9586-433F-B358-2E8A8955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0C7E-366F-438A-8460-70B9ACC9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0E0E-9F9D-407E-8DB5-FE78857D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2EB5-12B6-485C-8342-1E5396BD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E1A5-EE3C-4395-B182-9EA358A6B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457200"/>
            <a:ext cx="4495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entury Gothic"/>
              </a:rPr>
              <a:t>Le Singe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422748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6095880"/>
            <a:ext cx="40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: Marleny Archila et Julia Trang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0" r="0" b="6454"/>
          <a:stretch/>
        </p:blipFill>
        <p:spPr>
          <a:xfrm>
            <a:off x="3200400" y="2666880"/>
            <a:ext cx="2133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l est le plus fort de singe dans le mon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Singe hurleur est le plus fort des animaux dans le m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90920" y="2940120"/>
            <a:ext cx="419076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en pouvez-un singe pes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singe peut peser 4 onces à 100 liv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548640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en de temps dois singes viv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es peut vivre pour avoir plus de 4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057400" y="2511360"/>
            <a:ext cx="50292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quel âge sont des singes matur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singes sont matures à 4 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43200" y="281952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babouins marchent sur quatre pat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35607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ut singes na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es de l'Ancien Monde sont bonnes à la natation, mais préfèrent rester hors de l'ea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971800" y="3581280"/>
            <a:ext cx="388620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953240" cy="4372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28800" y="380880"/>
            <a:ext cx="57913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Merci d'avoir regardé!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’est-ce que manger du sin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es monge le fruit, laisse, herbe, oeufs, insectes, et ari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8120" y="3505320"/>
            <a:ext cx="330516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ù ne vivent sing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es habite en arbres, prairies, 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êts, et montagn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529080" y="2333520"/>
            <a:ext cx="2085840" cy="2190960"/>
            <a:chOff x="3529080" y="2333520"/>
            <a:chExt cx="2085840" cy="2190960"/>
          </a:xfrm>
        </p:grpSpPr>
        <p:sp>
          <p:nvSpPr>
            <p:cNvPr id="51" name=""/>
            <p:cNvSpPr txBox="1"/>
            <p:nvPr/>
          </p:nvSpPr>
          <p:spPr>
            <a:xfrm>
              <a:off x="3529080" y="2333520"/>
              <a:ext cx="2085840" cy="219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3429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en de types de singes ils son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y a 264 es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s connues de singes. Les es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èces sont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visé en de nouveaux monde singes et des mondes ancien si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2857680" cy="2371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60199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veaux monde s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2438280" cy="2666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567040" y="609588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es ancien si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’est-ce que est la petit singe de la mon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Arial"/>
              </a:rPr>
              <a:t>Ouistiti Pygmée (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ygmy Marmoset) est le petit singe de la mond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baby marmosets or finger puppets"/>
          <p:cNvPicPr/>
          <p:nvPr/>
        </p:nvPicPr>
        <p:blipFill>
          <a:blip r:embed="rId1"/>
          <a:stretch/>
        </p:blipFill>
        <p:spPr>
          <a:xfrm>
            <a:off x="914400" y="3352680"/>
            <a:ext cx="2857680" cy="2737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head"/>
          <p:cNvPicPr/>
          <p:nvPr/>
        </p:nvPicPr>
        <p:blipFill>
          <a:blip r:embed="rId2"/>
          <a:stretch/>
        </p:blipFill>
        <p:spPr>
          <a:xfrm>
            <a:off x="4952880" y="3200400"/>
            <a:ext cx="2962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’est-ce que el grande singe dans la mon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ndrill singe est le grande singe en la monde. El est 60 livres et 110 pounces gr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352680" y="3200400"/>
            <a:ext cx="2668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ent les singes communiqu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es utiliser des vocalisations et des expressions faci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66880" y="2957400"/>
            <a:ext cx="419112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en les dents ne singes du mondiales nouveaux o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es du mondiales nouveaux ont 36 d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518148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en les dents ne singes du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des ancien singe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es ancien singes ont 32 les d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81080" y="2557440"/>
            <a:ext cx="50292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ulia</cp:lastModifiedBy>
  <dcterms:modified xsi:type="dcterms:W3CDTF">2012-03-11T21:50:0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